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DC66-5327-4E84-8E93-5AF1544E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79D-BAE2-40BA-9B18-CFB7A0B4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0F7A-9E58-4595-B6D0-97D6D506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F40-F596-4C7A-9953-CE31AA30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9C7-2DD1-4BE4-ADBA-0802135E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257E-A11F-4C13-B230-4C3566A5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42B9-FF1F-4280-B814-6173BE59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F3D4-666B-42AE-8293-2FD4C754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8F45-F60C-4438-9F06-C0153E03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743-2F76-4370-8718-3D6679DF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00A0-D2DC-424A-B472-0950FAAD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3799-0F45-4275-AFC7-D0E7A880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8705-6D05-4C15-B78E-0BCFB6F7FEA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31 Ježiša kto má rá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rista hľa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chce pri tebe stá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ob vždy to čo ti rad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ňho s dôv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ste mnohý aj z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raz prežíva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i myslí, že ťažké je ži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le láskavý Pá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mu silu dá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ý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slušný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ť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rista hľa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chce pri tebe stá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ob vždy to čo ti rad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ňho s dôv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tu šťastný byť sm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lížnych kto mil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si Pána vie nad všetko ct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má čoho sa bá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ie vždy dôvero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ý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slušný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ť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rista hľa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chce pri tebe stá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ob vždy to čo ti rad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ňho s dôverou hľaď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žiša kto má rá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 ho nasledo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že bezpečne životom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toho radosť Pán m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mu poznať sa d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ý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slušný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ť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rista hľa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chce pri tebe stá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ob vždy to čo ti rad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ňho s dôv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Ježišom mizne stra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ny tiesnivý mrak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je ochotný každ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iech zmy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mu mierni Pán žia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háňa úzkosť v dia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ý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slušný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ť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rista hľa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chce pri tebe stá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ob vždy to čo ti rad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ňho s dôv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 čo nás suž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rápi poniž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vie zo strastí vyslobod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estou hoc tŕnist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áča vždy za Krist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ý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slušný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ť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5:38:51Z</dcterms:modified>
  <cp:revision>23</cp:revision>
  <dc:subject/>
  <dc:title>Je veľký náš Pán, on slávy je Kráľ Nech do všetkých strán  spev vrúcnych znie chvál.</dc:title>
</cp:coreProperties>
</file>